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59D-E568-43AA-85AE-8C8F43F8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22F-664D-42B7-9CF3-BE058E0B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AC6-1E05-4D7F-B793-37F84786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E59-1A8F-48CC-B209-1D30CA91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A5F-5F3E-4A6C-B0BB-2372FDCD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D01-D730-45C3-9F70-3438E2B0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C9B-33C3-4997-98FD-EB574E77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623-ED01-4E62-BCDE-F17E3D9F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3BA-FEBA-4E9E-BBBB-83E7850D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FA0-8C92-4BA2-AD20-30D17934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DB8-E8BD-4AB4-91C8-D9151F6F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781-5749-492B-BA7D-58B0E593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D186-D31F-43CB-92BD-909DB007D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am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2743200"/>
            <a:ext cx="167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0264324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228888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819520"/>
            <a:ext cx="160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j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112460" descr=""/>
          <p:cNvPicPr/>
          <p:nvPr/>
        </p:nvPicPr>
        <p:blipFill>
          <a:blip r:embed="rId1"/>
          <a:stretch/>
        </p:blipFill>
        <p:spPr>
          <a:xfrm>
            <a:off x="3886200" y="4343400"/>
            <a:ext cx="162576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29000" y="27432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2743200"/>
            <a:ext cx="1676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Y00628_" descr=""/>
          <p:cNvPicPr/>
          <p:nvPr/>
        </p:nvPicPr>
        <p:blipFill>
          <a:blip r:embed="rId1"/>
          <a:stretch/>
        </p:blipFill>
        <p:spPr>
          <a:xfrm>
            <a:off x="4114800" y="4038480"/>
            <a:ext cx="10764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053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2743200"/>
            <a:ext cx="160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078623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88108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743200"/>
            <a:ext cx="1676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283098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146376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9548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743200"/>
            <a:ext cx="1676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j0078922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22622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429000" y="2666880"/>
            <a:ext cx="160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c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666880"/>
            <a:ext cx="106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0250897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1198440" cy="163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8-08T01:42:21Z</dcterms:modified>
  <cp:revision>10</cp:revision>
  <dc:subject/>
  <dc:title>-ill Word Family</dc:title>
</cp:coreProperties>
</file>